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4424"/>
        <c:axId val="51675462"/>
      </c:barChart>
      <c:catAx>
        <c:axId val="9774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75462"/>
        <c:crosses val="autoZero"/>
        <c:auto val="1"/>
        <c:lblAlgn val="ctr"/>
        <c:lblOffset val="100"/>
        <c:noMultiLvlLbl val="0"/>
      </c:catAx>
      <c:valAx>
        <c:axId val="51675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4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44D-E7CB-4215-9D9A-6167263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644-3A00-4678-B859-950844B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A86-3C93-4E0A-B175-1A784FA5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AB6-0D07-447D-8BA4-DE4FF412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C63-CF53-49C3-B001-4188A92B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12F-3E5B-4AFF-AEFB-FD1D9F8C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C58-220C-4ABA-8892-3B570127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DC2-F9F2-488C-8146-5390DA9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E36-8F49-401C-BE03-C5588018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8B2-C91A-43EC-A15A-15EEBC9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65E-A275-4EF8-9C2A-5178E19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649-65DD-4445-8B82-A21363E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FDB1E-D79A-4E2A-81E9-1BE50315D2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