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1187"/>
        <c:axId val="28568382"/>
      </c:barChart>
      <c:catAx>
        <c:axId val="21911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68382"/>
        <c:crosses val="autoZero"/>
        <c:auto val="1"/>
        <c:lblAlgn val="ctr"/>
        <c:lblOffset val="100"/>
        <c:noMultiLvlLbl val="0"/>
      </c:catAx>
      <c:valAx>
        <c:axId val="28568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11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ADA-5DB7-4EFA-86D2-5DCE4661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0E7-1BB5-4179-9C27-30FD12FA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177-B4CA-4090-AC65-AFA36BAB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232D-97FF-4119-A2FE-233698D7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D53A-75C7-430F-B82E-75C81A32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9622-4A77-4C69-9652-4BAF2F14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D5C7-CD64-48E8-81E9-D59C2479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699-CD40-47E9-9282-9D6F4AD8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BDD-C113-4818-9515-A0CBC900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C9B-5354-4C5E-AB9D-7A7CE05C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8AE3-BE89-453A-9AF7-31F7509C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43E-228E-4392-9D0F-CE275438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C6D51-4EB5-401E-91BC-EE0721BBD4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