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32519"/>
        <c:axId val="26145384"/>
      </c:barChart>
      <c:catAx>
        <c:axId val="45232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45384"/>
        <c:crosses val="autoZero"/>
        <c:auto val="1"/>
        <c:lblAlgn val="ctr"/>
        <c:lblOffset val="100"/>
        <c:noMultiLvlLbl val="0"/>
      </c:catAx>
      <c:valAx>
        <c:axId val="26145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32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5D9-5E44-4891-BC03-C19D81A8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368-15A1-4D3C-95A4-BBF3410E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77C-129F-4689-9792-C5A6AF81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7A3-DA3B-4EF3-8A6B-EBB579FF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095-2370-489E-A802-D796A01D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1FE-5C46-476B-9807-E26C34B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AAD-576B-4EB5-9DEF-1C7CD42B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A52-DD07-4B0E-B8EE-8F732414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F5C-E59E-413E-8609-D88045C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297-8AB7-4253-BC1B-23B50D85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DCD-F63B-4CC3-965B-8EC9EF0C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6D3-55D6-47C1-AE29-33EA162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4C3B1-514F-4362-9B2C-497155F4E0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